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9.png" ContentType="image/png"/>
  <Override PartName="/ppt/media/image5.wmf" ContentType="image/x-wmf"/>
  <Override PartName="/ppt/media/image11.png" ContentType="image/png"/>
  <Override PartName="/ppt/media/image8.png" ContentType="image/png"/>
  <Override PartName="/ppt/media/image13.png" ContentType="image/png"/>
  <Override PartName="/ppt/media/image37.jpeg" ContentType="image/jpeg"/>
  <Override PartName="/ppt/media/image6.png" ContentType="image/png"/>
  <Override PartName="/ppt/media/image36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18.png" ContentType="image/png"/>
  <Override PartName="/ppt/media/image3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64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57E-DC4B-4D49-821C-0D4119B5810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B37-0586-484A-A499-DB56750458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CB0E-9C6C-43A7-953F-6CB0E5EE848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B80A-D030-4463-BA10-935DE1FCA23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4B20-8973-422A-989E-E4D90B72353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332-C6B6-441A-8ECB-AEDCB6C42E5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E469-9095-4298-9C3F-7E85185602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4BA6-26AA-43A3-A436-ADFB9C199C1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C27F-9065-4858-829C-4372908B29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F7D-4E35-443B-93AD-638F3EBE5A4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4390-D9A4-4DF0-9A2A-7943AE47596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bert Camus powiedział kiedyś, że szkoła przygotowuje dzieci do życia w świecie, który nie istnieje. To pełne ujęcie problemu, z którym mamy do czynienia. Z jednej strony można słowa te odczytać jako zarzut – szkoła źle przygotowuje uczniów do życia w świecie, w który wchodzą po jej opuszczeniu (świat, do którego przygotowuje, JUŻ nie istnieje). Jednak można te słowa zrozumie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ównież jako pewną misję, wyzwanie: szkoła ma przygotowywać do życia w świecie, który JESZCZE nie istnieje, ale który nastanie wkrótce po tym, gdy uczniowie opuszczą jej mury. W tym drugim ujęciu jest to swego rodzaju metawyzwanie, które powinno nam towarzyszyć zawsze, gdy myślimy o edukacji i rozwoju szkolnictw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B48D-51DF-4D1A-8E88-13F1486A54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28AD-29DF-4EA8-9704-4EE4783F17B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347C-EFFD-45F1-8D24-B72F866C947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2916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ymbol zastępczy numeru slajdu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7353-E4A9-4262-A134-6D3CFF2EE5B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48E-2330-4F8D-82E8-90DC4961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CAE-A8F5-4E18-8C8C-59CDA973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FAC-CCB4-4C88-8C11-F7D6FB7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A52-051B-487D-8806-36419F7E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4A2C-6CA5-4CBC-B482-52A70C95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E24-3519-408E-A37C-E48CAA0E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8237-FAA8-4367-AEE7-1240F62A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C52-F526-498F-B7EC-65A5DD05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151-22A1-486D-9630-2F96087D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EF51-82BE-45E4-8417-5632032B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5AB-F93F-4417-87FB-3522CDB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F86-AA24-4B4E-A9DD-5439C7D8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0D77-40FD-4C15-9BF4-A1EA32E6A2D7}" type="datetime">
              <a:rPr b="0" lang="pl-PL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07-03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20E7-A347-4333-AA36-F9A6889ACC4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6920" y="1952280"/>
            <a:ext cx="8497800" cy="24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ształcenie ustawiczne 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wyzwanie czy konieczność? </a:t>
            </a:r>
            <a:br>
              <a:rPr sz="3200"/>
            </a:br>
            <a:r>
              <a:rPr b="1" lang="pl-PL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rspektywy zatrudnienia dla absolwentów szkół zawodowy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1800360" y="18900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jewódzki Urząd Pracy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Kielc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az 7" descr="logo_wup.jpg"/>
          <p:cNvPicPr/>
          <p:nvPr/>
        </p:nvPicPr>
        <p:blipFill>
          <a:blip r:embed="rId1"/>
          <a:stretch/>
        </p:blipFill>
        <p:spPr>
          <a:xfrm>
            <a:off x="190440" y="216000"/>
            <a:ext cx="1681200" cy="912600"/>
          </a:xfrm>
          <a:prstGeom prst="rect">
            <a:avLst/>
          </a:prstGeom>
          <a:ln w="0">
            <a:noFill/>
          </a:ln>
        </p:spPr>
      </p:pic>
      <p:pic>
        <p:nvPicPr>
          <p:cNvPr id="51" name="Obraz 8" descr="logo_UM.jpg"/>
          <p:cNvPicPr/>
          <p:nvPr/>
        </p:nvPicPr>
        <p:blipFill>
          <a:blip r:embed="rId2"/>
          <a:stretch/>
        </p:blipFill>
        <p:spPr>
          <a:xfrm>
            <a:off x="7748640" y="179280"/>
            <a:ext cx="1065240" cy="113184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6"/>
          <p:cNvSpPr/>
          <p:nvPr/>
        </p:nvSpPr>
        <p:spPr>
          <a:xfrm>
            <a:off x="358920" y="5337000"/>
            <a:ext cx="59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nferencja pt. „Kształcenie ustawiczne dla rynku pracy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achowice, 07.03.2014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5484960" y="551016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72"/>
          <p:cNvSpPr/>
          <p:nvPr/>
        </p:nvSpPr>
        <p:spPr>
          <a:xfrm>
            <a:off x="132228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"/>
              </a:rPr>
              <a:t>Zmiany w strukturze bezrobotnych według wie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99ccff"/>
                </a:solidFill>
                <a:latin typeface="Arial"/>
              </a:rPr>
              <a:t>od 2002 roku do 2013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90440" y="800280"/>
          <a:ext cx="8763120" cy="3439800"/>
        </p:xfrm>
        <a:graphic>
          <a:graphicData uri="http://schemas.openxmlformats.org/drawingml/2006/table">
            <a:tbl>
              <a:tblPr/>
              <a:tblGrid>
                <a:gridCol w="1641600"/>
                <a:gridCol w="1280880"/>
                <a:gridCol w="1462320"/>
                <a:gridCol w="1455840"/>
                <a:gridCol w="1466640"/>
                <a:gridCol w="1455840"/>
              </a:tblGrid>
              <a:tr h="421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-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-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i powyże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dzień 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Chart 2" descr=""/>
          <p:cNvPicPr/>
          <p:nvPr/>
        </p:nvPicPr>
        <p:blipFill>
          <a:blip r:embed="rId1"/>
          <a:stretch/>
        </p:blipFill>
        <p:spPr>
          <a:xfrm>
            <a:off x="2266920" y="4406760"/>
            <a:ext cx="5943600" cy="2457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4" descr=""/>
          <p:cNvPicPr/>
          <p:nvPr/>
        </p:nvPicPr>
        <p:blipFill>
          <a:blip r:embed="rId1"/>
          <a:stretch/>
        </p:blipFill>
        <p:spPr>
          <a:xfrm>
            <a:off x="154080" y="142920"/>
            <a:ext cx="8839080" cy="5294160"/>
          </a:xfrm>
          <a:prstGeom prst="rect">
            <a:avLst/>
          </a:prstGeom>
          <a:ln w="0">
            <a:noFill/>
          </a:ln>
        </p:spPr>
      </p:pic>
      <p:sp>
        <p:nvSpPr>
          <p:cNvPr id="85" name="pole tekstowe 7"/>
          <p:cNvSpPr/>
          <p:nvPr/>
        </p:nvSpPr>
        <p:spPr>
          <a:xfrm>
            <a:off x="372960" y="5546880"/>
            <a:ext cx="78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Łącznie: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ształcenie zasadnicze zawodow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az gimnazjalne i niższe - 6.293 osoby tj.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35,0% ogół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(w kraju - 44,3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777"/>
          <p:cNvSpPr/>
          <p:nvPr/>
        </p:nvSpPr>
        <p:spPr>
          <a:xfrm>
            <a:off x="1468440" y="0"/>
            <a:ext cx="68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9900"/>
                </a:solidFill>
                <a:latin typeface="Arial"/>
              </a:rPr>
              <a:t>Zmiany w strukturze bezrobotnych według wykształc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9900"/>
                </a:solidFill>
                <a:latin typeface="Arial"/>
              </a:rPr>
              <a:t>od 2002 roku do 2013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4080" y="871560"/>
          <a:ext cx="8762760" cy="3506760"/>
        </p:xfrm>
        <a:graphic>
          <a:graphicData uri="http://schemas.openxmlformats.org/drawingml/2006/table">
            <a:tbl>
              <a:tblPr/>
              <a:tblGrid>
                <a:gridCol w="1474560"/>
                <a:gridCol w="1193760"/>
                <a:gridCol w="1279800"/>
                <a:gridCol w="1612800"/>
                <a:gridCol w="2043000"/>
                <a:gridCol w="1158840"/>
              </a:tblGrid>
              <a:tr h="49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mnazjalne</a:t>
                      </a:r>
                      <a:br>
                        <a:rPr sz="1300"/>
                      </a:b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 poniże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sadnicze zawodow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ednie ogólnokształcą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ealne </a:t>
                      </a:r>
                      <a:br>
                        <a:rPr sz="1300"/>
                      </a:b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średnie zawodow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yżs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dzień 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,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Chart 2" descr=""/>
          <p:cNvPicPr/>
          <p:nvPr/>
        </p:nvPicPr>
        <p:blipFill>
          <a:blip r:embed="rId1"/>
          <a:stretch/>
        </p:blipFill>
        <p:spPr>
          <a:xfrm>
            <a:off x="1170000" y="4297320"/>
            <a:ext cx="7023240" cy="2683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ykres 2" descr=""/>
          <p:cNvPicPr/>
          <p:nvPr/>
        </p:nvPicPr>
        <p:blipFill>
          <a:blip r:embed="rId1"/>
          <a:stretch/>
        </p:blipFill>
        <p:spPr>
          <a:xfrm>
            <a:off x="0" y="0"/>
            <a:ext cx="8924760" cy="5553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246960" y="5732280"/>
            <a:ext cx="85611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  <a:ea typeface="Times New Roman"/>
              </a:rPr>
              <a:t>Źródło: Wydruki z aplikacji utworzonej przez firmę Sygnity na podstawie danych z SIO MEN oraz wyliczenia własne na podstawie danych z SIO M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* Do szkół policealnych dodano Niepubliczne Nauczycielskie Kolegium Języków Obcych TWP Kielce,  Nauczycielskie Kolegium Języków Obcych w Sandomierzu </a:t>
            </a:r>
            <a:br>
              <a:rPr sz="1000"/>
            </a:br>
            <a:r>
              <a:rPr b="0" lang="pl-PL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oraz Kolegium Pracowników Służb Społecznych  w Skarżysku - Kamiennej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** W technikach zostały wykazane szkoły artystyczne: muzyczne II stopnia oraz ogólnokształcące szkoły muzyczne II stopnia (kształcenie w zawodzie muzyk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</a:t>
            </a:r>
            <a:r>
              <a:rPr b="0" lang="pl-PL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oraz  6 letnia ogólnokształcąca szkoła sztuk pięknych i 4 letnie liceum plastyczne (kształcenie w zawodzie plastyk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3"/>
          <p:cNvSpPr/>
          <p:nvPr/>
        </p:nvSpPr>
        <p:spPr>
          <a:xfrm>
            <a:off x="227160" y="179280"/>
            <a:ext cx="86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pinie przedsiębiorców o absolwentach szkół zawodow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9"/>
          <p:cNvSpPr/>
          <p:nvPr/>
        </p:nvSpPr>
        <p:spPr>
          <a:xfrm>
            <a:off x="190440" y="6459480"/>
            <a:ext cx="817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ffffff"/>
                </a:solidFill>
                <a:latin typeface="Arial"/>
              </a:rPr>
              <a:t>Źródło: „Badanie funkcjonowania systemu kształcenia zawodowego w Polsce”, 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Wykres 6" descr=""/>
          <p:cNvPicPr/>
          <p:nvPr/>
        </p:nvPicPr>
        <p:blipFill>
          <a:blip r:embed="rId1"/>
          <a:stretch/>
        </p:blipFill>
        <p:spPr>
          <a:xfrm>
            <a:off x="146160" y="1047600"/>
            <a:ext cx="8596080" cy="5310360"/>
          </a:xfrm>
          <a:prstGeom prst="rect">
            <a:avLst/>
          </a:prstGeom>
          <a:ln w="0">
            <a:noFill/>
          </a:ln>
        </p:spPr>
      </p:pic>
      <p:sp>
        <p:nvSpPr>
          <p:cNvPr id="94" name="Prostokąt 7"/>
          <p:cNvSpPr/>
          <p:nvPr/>
        </p:nvSpPr>
        <p:spPr>
          <a:xfrm>
            <a:off x="154080" y="727200"/>
            <a:ext cx="869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ffffff"/>
                </a:solidFill>
                <a:latin typeface="Calibri"/>
              </a:rPr>
              <a:t>Czy w Pana(i) opinii absolwenci szkół zawodowych…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604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KING ZAWODÓW BEZROBOTNYCH DO 12 MIESIĘCY OD DNIA UKOŃCZENIA SZKOŁY NOWO ZAREJESTROWANYCH W 2012 ROKU (NAPŁYW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ytuł 1"/>
          <p:cNvSpPr/>
          <p:nvPr/>
        </p:nvSpPr>
        <p:spPr>
          <a:xfrm>
            <a:off x="0" y="5948280"/>
            <a:ext cx="8989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000" spc="-1" strike="noStrike">
                <a:solidFill>
                  <a:srgbClr val="ffffff"/>
                </a:solidFill>
                <a:latin typeface="Arial"/>
              </a:rPr>
              <a:t>* W zestawieniu uwzględniono 20  pierwszych pozycji, tj. 61,4% spośród 3.648 osób posiadających zawód ( z wyłączeniem specjalistów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82760" y="836640"/>
          <a:ext cx="7859520" cy="4797360"/>
        </p:xfrm>
        <a:graphic>
          <a:graphicData uri="http://schemas.openxmlformats.org/drawingml/2006/table">
            <a:tbl>
              <a:tblPr/>
              <a:tblGrid>
                <a:gridCol w="291960"/>
                <a:gridCol w="2836800"/>
                <a:gridCol w="704880"/>
                <a:gridCol w="284040"/>
                <a:gridCol w="298440"/>
                <a:gridCol w="2772000"/>
                <a:gridCol w="671400"/>
              </a:tblGrid>
              <a:tr h="533520">
                <a:tc gridSpan="3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00"/>
                          </a:solidFill>
                          <a:latin typeface="Arial CE"/>
                          <a:ea typeface="Times New Roman"/>
                        </a:rPr>
                        <a:t>KSZTAŁCENIE NA POZIOMIE ZS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6">
                  <a:txBody>
                    <a:bodyPr lIns="36720" rIns="36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cecff"/>
                          </a:solidFill>
                          <a:latin typeface="Arial CE"/>
                          <a:ea typeface="Times New Roman"/>
                        </a:rPr>
                        <a:t>KSZTAŁCENIE NA POZIOM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cecff"/>
                          </a:solidFill>
                          <a:latin typeface="Arial CE"/>
                          <a:ea typeface="Times New Roman"/>
                        </a:rPr>
                        <a:t>ŚREDNIM ZAWODOW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Sprzedaw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3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ekono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560"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Fryzj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informat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560"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Mechanik pojazdów samochod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hotelarst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252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Kucharz małej gastronom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żywienia i gospodarstwa domow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5252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Technolog robót wykończeniowych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w budownict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budownict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4588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Cukier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mecha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2416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Elektromechanik pojazdów samochod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organizacji usług gastronomicz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52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Mura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prac biur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540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Posadzka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farmaceutycz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0080">
                <a:tc grid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RAZ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.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usług fryzjersk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440">
                <a:tc gridSpan="2" rowSpan="3">
                  <a:txBody>
                    <a:bodyPr lIns="36720" rIns="367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36720" rIns="367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8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handlowi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RAZ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82760" y="1128600"/>
          <a:ext cx="8251560" cy="4583160"/>
        </p:xfrm>
        <a:graphic>
          <a:graphicData uri="http://schemas.openxmlformats.org/drawingml/2006/table">
            <a:tbl>
              <a:tblPr/>
              <a:tblGrid>
                <a:gridCol w="412560"/>
                <a:gridCol w="2873520"/>
                <a:gridCol w="620640"/>
                <a:gridCol w="417600"/>
                <a:gridCol w="404640"/>
                <a:gridCol w="2819520"/>
                <a:gridCol w="703080"/>
              </a:tblGrid>
              <a:tr h="533520">
                <a:tc gridSpan="3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00"/>
                          </a:solidFill>
                          <a:latin typeface="Arial CE"/>
                          <a:ea typeface="Times New Roman"/>
                        </a:rPr>
                        <a:t>KSZTAŁCENIE NA POZIOMIE ZS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4">
                  <a:txBody>
                    <a:bodyPr lIns="36720" rIns="36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cecff"/>
                          </a:solidFill>
                          <a:latin typeface="Arial CE"/>
                          <a:ea typeface="Times New Roman"/>
                        </a:rPr>
                        <a:t>KSZTAŁCENIE NA POZIOM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ccecff"/>
                          </a:solidFill>
                          <a:latin typeface="Arial CE"/>
                          <a:ea typeface="Times New Roman"/>
                        </a:rPr>
                        <a:t>ŚREDNIM ZAWODOW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Sprzedaw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ekonom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"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Fryzj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informaty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560"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Kucharz małej gastronom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farmaceutycz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236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Mechanik pojazdów samochod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mecha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748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Technolog robót wykończeniowych</a:t>
                      </a:r>
                      <a:br>
                        <a:rPr sz="1200"/>
                      </a:b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w budownictw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żywienia i gospodarstwa domowe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5200"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Elektromechanik pojazdów samochod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hotelarst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0968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Cukierni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prac biur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50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Mura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budownict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42084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Posadzka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organizacji usług gastronomiczn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84120"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Piekar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Technik administr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284040">
                <a:tc grid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RAZ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161645"/>
                          </a:solidFill>
                          <a:latin typeface="Arial"/>
                          <a:ea typeface="Times New Roman"/>
                        </a:rPr>
                        <a:t>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720" rIns="367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36720" rIns="36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RAZEM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33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2760" y="14292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KING ZAWODÓW BEZROBOTNYCH DO 12 MIESIĘCY OD DNIA UKOŃCZENIA SZKOŁY NOWO ZAREJESTROWANYCH W I PÓŁROCZU 2013 ROKU (NAPŁYW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ytuł 1"/>
          <p:cNvSpPr/>
          <p:nvPr/>
        </p:nvSpPr>
        <p:spPr>
          <a:xfrm>
            <a:off x="0" y="5948280"/>
            <a:ext cx="89899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100" spc="-1" strike="noStrike">
                <a:solidFill>
                  <a:srgbClr val="ffffff"/>
                </a:solidFill>
                <a:latin typeface="Arial"/>
              </a:rPr>
              <a:t>* W zestawieniu uwzględniono 20 pozycji, tj. 57,7% spośród 1.463 osób posiadających zawód ( z wyłączeniem specjalistów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ole tekstowe 5"/>
          <p:cNvSpPr/>
          <p:nvPr/>
        </p:nvSpPr>
        <p:spPr>
          <a:xfrm>
            <a:off x="1285920" y="216000"/>
            <a:ext cx="68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600" spc="-1" strike="noStrike">
                <a:solidFill>
                  <a:srgbClr val="ffc000"/>
                </a:solidFill>
                <a:latin typeface="Arial"/>
              </a:rPr>
              <a:t>w latach 2013-2014 w województwie świętokrzy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Wykres 6" descr=""/>
          <p:cNvPicPr/>
          <p:nvPr/>
        </p:nvPicPr>
        <p:blipFill>
          <a:blip r:embed="rId1"/>
          <a:stretch/>
        </p:blipFill>
        <p:spPr>
          <a:xfrm>
            <a:off x="249120" y="1176480"/>
            <a:ext cx="5048280" cy="5340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5286240" y="1423800"/>
            <a:ext cx="36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odobnie jak w rok 2012,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największe zapotrzebowanie dotyczy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robotników przemysłowych 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 rzemieślników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oraz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operatorów </a:t>
            </a:r>
            <a:br>
              <a:rPr sz="1800"/>
            </a:b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i monterów maszyn i urządzeń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Łącznie pracodawcy zadeklarowali chęć zatrudnienia 687 osób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do wykonywania pracy w tych zawoda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O połowę zmniejszyło się natomiast zapotrzebowanie na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pracowników usług i sprzedawców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oraz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specjalistów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, a niemal czterokrotnie na </a:t>
            </a:r>
            <a:r>
              <a:rPr b="0" i="1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techników i średni personel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rostokąt 8"/>
          <p:cNvSpPr/>
          <p:nvPr/>
        </p:nvSpPr>
        <p:spPr>
          <a:xfrm>
            <a:off x="357120" y="10000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Zapotrzebowanie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na pracownik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wg nazw stanowisk podanych przez pracodawc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(10 i więcej wskaza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abela 9" descr=""/>
          <p:cNvPicPr/>
          <p:nvPr/>
        </p:nvPicPr>
        <p:blipFill>
          <a:blip r:embed="rId1"/>
          <a:stretch/>
        </p:blipFill>
        <p:spPr>
          <a:xfrm>
            <a:off x="426960" y="2114640"/>
            <a:ext cx="8167680" cy="4548240"/>
          </a:xfrm>
          <a:prstGeom prst="rect">
            <a:avLst/>
          </a:prstGeom>
          <a:ln w="0">
            <a:noFill/>
          </a:ln>
        </p:spPr>
      </p:pic>
      <p:sp>
        <p:nvSpPr>
          <p:cNvPr id="108" name="pole tekstowe 10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Wykres 2" descr=""/>
          <p:cNvPicPr/>
          <p:nvPr/>
        </p:nvPicPr>
        <p:blipFill>
          <a:blip r:embed="rId1"/>
          <a:stretch/>
        </p:blipFill>
        <p:spPr>
          <a:xfrm>
            <a:off x="-6480" y="90180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10" name="Wykres 3" descr=""/>
          <p:cNvPicPr/>
          <p:nvPr/>
        </p:nvPicPr>
        <p:blipFill>
          <a:blip r:embed="rId2"/>
          <a:stretch/>
        </p:blipFill>
        <p:spPr>
          <a:xfrm>
            <a:off x="4565520" y="82872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11" name="Wykres 4" descr=""/>
          <p:cNvPicPr/>
          <p:nvPr/>
        </p:nvPicPr>
        <p:blipFill>
          <a:blip r:embed="rId3"/>
          <a:stretch/>
        </p:blipFill>
        <p:spPr>
          <a:xfrm>
            <a:off x="2157480" y="3786120"/>
            <a:ext cx="4584600" cy="2754360"/>
          </a:xfrm>
          <a:prstGeom prst="rect">
            <a:avLst/>
          </a:prstGeom>
          <a:ln w="0">
            <a:noFill/>
          </a:ln>
        </p:spPr>
      </p:pic>
      <p:sp>
        <p:nvSpPr>
          <p:cNvPr id="112" name="pole tekstowe 6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za zatrudnienia wg wielkich grup zawo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województwa świętokrzyskiego na lata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czba pracujących w tys. osó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ole tekstowe 7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Centrum Rozwoju Zasobów Ludzkich oraz Instytut Pracy  i Spraw Socjal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33480"/>
          <a:ext cx="4024440" cy="6796080"/>
        </p:xfrm>
        <a:graphic>
          <a:graphicData uri="http://schemas.openxmlformats.org/drawingml/2006/table">
            <a:tbl>
              <a:tblPr/>
              <a:tblGrid>
                <a:gridCol w="549360"/>
                <a:gridCol w="2197080"/>
                <a:gridCol w="1278000"/>
              </a:tblGrid>
              <a:tr h="687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ojewództ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99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bezrobotny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 tys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99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55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czba bezrobotnych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 kraj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99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99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zowiec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lą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ł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karpac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lnoślą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Łódz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jawsko – Pomorski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elk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e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rmińsko – Mazu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chodniopomo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więtokrzy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c00"/>
                        </a:gs>
                        <a:gs pos="50000">
                          <a:srgbClr val="ffff99"/>
                        </a:gs>
                        <a:gs pos="100000">
                          <a:srgbClr val="ffcc00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la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ubu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  <a:tr h="34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39966"/>
                        </a:gs>
                        <a:gs pos="50000">
                          <a:srgbClr val="ccffcc"/>
                        </a:gs>
                        <a:gs pos="100000">
                          <a:srgbClr val="33996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55" name="Text Box 2"/>
          <p:cNvSpPr/>
          <p:nvPr/>
        </p:nvSpPr>
        <p:spPr>
          <a:xfrm>
            <a:off x="4170240" y="0"/>
            <a:ext cx="47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ZBA  BEZROBOTNYCH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Z  STOPA  BEZROBO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 KONIEC  GRUD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3  ROKU  WG  WOJEWÓDZ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2"/>
          <p:cNvSpPr/>
          <p:nvPr/>
        </p:nvSpPr>
        <p:spPr>
          <a:xfrm>
            <a:off x="4587840" y="5838840"/>
            <a:ext cx="455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opa bezrobocia to: </a:t>
            </a:r>
            <a:br>
              <a:rPr sz="1400"/>
            </a:br>
            <a:r>
              <a:rPr b="1" lang="pl-PL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yrażony w procentach udział liczby bezrobot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o liczby ludności aktywnej zawodo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6"/>
          <p:cNvSpPr/>
          <p:nvPr/>
        </p:nvSpPr>
        <p:spPr>
          <a:xfrm>
            <a:off x="4569120" y="5510160"/>
            <a:ext cx="20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 </a:t>
            </a:r>
            <a:r>
              <a:rPr b="1" lang="pl-PL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SKA - 13,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3" descr=""/>
          <p:cNvPicPr/>
          <p:nvPr/>
        </p:nvPicPr>
        <p:blipFill>
          <a:blip r:embed="rId1"/>
          <a:stretch/>
        </p:blipFill>
        <p:spPr>
          <a:xfrm>
            <a:off x="4352760" y="1274760"/>
            <a:ext cx="4491360" cy="419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Wykres 2" descr=""/>
          <p:cNvPicPr/>
          <p:nvPr/>
        </p:nvPicPr>
        <p:blipFill>
          <a:blip r:embed="rId1"/>
          <a:stretch/>
        </p:blipFill>
        <p:spPr>
          <a:xfrm>
            <a:off x="165240" y="1090440"/>
            <a:ext cx="4582800" cy="2756160"/>
          </a:xfrm>
          <a:prstGeom prst="rect">
            <a:avLst/>
          </a:prstGeom>
          <a:ln w="0">
            <a:noFill/>
          </a:ln>
        </p:spPr>
      </p:pic>
      <p:pic>
        <p:nvPicPr>
          <p:cNvPr id="115" name="Wykres 3" descr=""/>
          <p:cNvPicPr/>
          <p:nvPr/>
        </p:nvPicPr>
        <p:blipFill>
          <a:blip r:embed="rId2"/>
          <a:stretch/>
        </p:blipFill>
        <p:spPr>
          <a:xfrm>
            <a:off x="4711680" y="1085760"/>
            <a:ext cx="4584600" cy="2754360"/>
          </a:xfrm>
          <a:prstGeom prst="rect">
            <a:avLst/>
          </a:prstGeom>
          <a:ln w="0">
            <a:noFill/>
          </a:ln>
        </p:spPr>
      </p:pic>
      <p:pic>
        <p:nvPicPr>
          <p:cNvPr id="116" name="Wykres 4" descr=""/>
          <p:cNvPicPr/>
          <p:nvPr/>
        </p:nvPicPr>
        <p:blipFill>
          <a:blip r:embed="rId3"/>
          <a:stretch/>
        </p:blipFill>
        <p:spPr>
          <a:xfrm>
            <a:off x="2230560" y="3786120"/>
            <a:ext cx="4584600" cy="2754360"/>
          </a:xfrm>
          <a:prstGeom prst="rect">
            <a:avLst/>
          </a:prstGeom>
          <a:ln w="0">
            <a:noFill/>
          </a:ln>
        </p:spPr>
      </p:pic>
      <p:sp>
        <p:nvSpPr>
          <p:cNvPr id="117" name="pole tekstowe 6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Centrum Rozwoju Zasobów Ludzkich oraz Instytut Pracy i Spraw Socjal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ole tekstowe 7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za zatrudnienia wg wielkich grup zawo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województwa świętokrzyskiego na lata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czba pracujących w tys. osó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Wykres 2" descr=""/>
          <p:cNvPicPr/>
          <p:nvPr/>
        </p:nvPicPr>
        <p:blipFill>
          <a:blip r:embed="rId1"/>
          <a:stretch/>
        </p:blipFill>
        <p:spPr>
          <a:xfrm>
            <a:off x="-6480" y="93816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20" name="Wykres 3" descr=""/>
          <p:cNvPicPr/>
          <p:nvPr/>
        </p:nvPicPr>
        <p:blipFill>
          <a:blip r:embed="rId2"/>
          <a:stretch/>
        </p:blipFill>
        <p:spPr>
          <a:xfrm>
            <a:off x="4565520" y="938160"/>
            <a:ext cx="4584960" cy="2755800"/>
          </a:xfrm>
          <a:prstGeom prst="rect">
            <a:avLst/>
          </a:prstGeom>
          <a:ln w="0">
            <a:noFill/>
          </a:ln>
        </p:spPr>
      </p:pic>
      <p:pic>
        <p:nvPicPr>
          <p:cNvPr id="121" name="Wykres 4" descr=""/>
          <p:cNvPicPr/>
          <p:nvPr/>
        </p:nvPicPr>
        <p:blipFill>
          <a:blip r:embed="rId3"/>
          <a:stretch/>
        </p:blipFill>
        <p:spPr>
          <a:xfrm>
            <a:off x="2378160" y="3713040"/>
            <a:ext cx="4583160" cy="2754360"/>
          </a:xfrm>
          <a:prstGeom prst="rect">
            <a:avLst/>
          </a:prstGeom>
          <a:ln w="0">
            <a:noFill/>
          </a:ln>
        </p:spPr>
      </p:pic>
      <p:sp>
        <p:nvSpPr>
          <p:cNvPr id="122" name="pole tekstowe 6"/>
          <p:cNvSpPr/>
          <p:nvPr/>
        </p:nvSpPr>
        <p:spPr>
          <a:xfrm>
            <a:off x="0" y="6581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Centrum Rozwoju Zasobów Ludzkich oraz Instytut Pracy i Spraw Socjal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ole tekstowe 7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noza zatrudnienia wg wielkich grup zawod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województwa świętokrzyskiego na lata 2014-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liczba pracujących w tys. osó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Wykres 6" descr=""/>
          <p:cNvPicPr/>
          <p:nvPr/>
        </p:nvPicPr>
        <p:blipFill>
          <a:blip r:embed="rId1"/>
          <a:stretch/>
        </p:blipFill>
        <p:spPr>
          <a:xfrm>
            <a:off x="590400" y="2846520"/>
            <a:ext cx="7815240" cy="3835440"/>
          </a:xfrm>
          <a:prstGeom prst="rect">
            <a:avLst/>
          </a:prstGeom>
          <a:ln w="0">
            <a:noFill/>
          </a:ln>
        </p:spPr>
      </p:pic>
      <p:sp>
        <p:nvSpPr>
          <p:cNvPr id="126" name="Prostokąt 8"/>
          <p:cNvSpPr/>
          <p:nvPr/>
        </p:nvSpPr>
        <p:spPr>
          <a:xfrm>
            <a:off x="214200" y="121428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magania stawiane przyszłym pracownikom są w dużej mierze determinowane charakterem wykonywanej pracy oraz branżą w jakiej działa firma. Niezmiennie dla pracodawców najistotniejszą cechą przyszłych pracowników jest doświadczenie zawodowe oraz umiejętności praktyczne, jak i te "miękkie" związane z osobowości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ole tekstowe 9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1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500040" y="2016000"/>
            <a:ext cx="814392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W tegorocznej edycji zakres tematyczny badania został poszerzony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o zagadnienia dotyczące oceny kwalifikacji zatrudnionych obecnie pracowników oraz zdefiniowania potrzeb dotyczących potencjalnego zatrudnienia. Wywiady przeprowadzone z przedsiębiorcami pozwoliły na uzyskanie odpowiedzi na pytan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Jak przedsiębiorcy oceniają poziom wiedzy i umiejętności swoich pracownikó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Czy starają się podnosić ich kwalifikacje poprzez dodatkowe kursy, szkolen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Z jakich powodów tego nie robi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Z jakich źródeł są finansowane szkolen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W jakich obszarach kadra pracownicza wymaga doszkolen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rostokąt 6"/>
          <p:cNvSpPr/>
          <p:nvPr/>
        </p:nvSpPr>
        <p:spPr>
          <a:xfrm>
            <a:off x="0" y="10717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Potrzeby szkoleniowe świętokrzyskich pracodawc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ole tekstowe 8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Wykres 6" descr=""/>
          <p:cNvPicPr/>
          <p:nvPr/>
        </p:nvPicPr>
        <p:blipFill>
          <a:blip r:embed="rId1"/>
          <a:stretch/>
        </p:blipFill>
        <p:spPr>
          <a:xfrm>
            <a:off x="-36360" y="1103400"/>
            <a:ext cx="9266040" cy="5376600"/>
          </a:xfrm>
          <a:prstGeom prst="rect">
            <a:avLst/>
          </a:prstGeom>
          <a:ln w="0">
            <a:noFill/>
          </a:ln>
        </p:spPr>
      </p:pic>
      <p:sp>
        <p:nvSpPr>
          <p:cNvPr id="134" name="pole tekstowe 8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1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Wykres 6" descr=""/>
          <p:cNvPicPr/>
          <p:nvPr/>
        </p:nvPicPr>
        <p:blipFill>
          <a:blip r:embed="rId1"/>
          <a:stretch/>
        </p:blipFill>
        <p:spPr>
          <a:xfrm>
            <a:off x="262080" y="1017720"/>
            <a:ext cx="5035320" cy="3517920"/>
          </a:xfrm>
          <a:prstGeom prst="rect">
            <a:avLst/>
          </a:prstGeom>
          <a:ln w="0">
            <a:noFill/>
          </a:ln>
        </p:spPr>
      </p:pic>
      <p:sp>
        <p:nvSpPr>
          <p:cNvPr id="137" name="Prostokąt 9"/>
          <p:cNvSpPr/>
          <p:nvPr/>
        </p:nvSpPr>
        <p:spPr>
          <a:xfrm>
            <a:off x="372960" y="4743360"/>
            <a:ext cx="83376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decydowana większość badanych deklarujących uczestnictwo swoich pracowników w szkoleniach w ciągu ostatniego roku finansowała je z własnych środ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Rozkład tej cechy tylko nieznacznie różnicował się ze względu na wielkość badanych podmiot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ole tekstowe 10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Wykres 6" descr=""/>
          <p:cNvPicPr/>
          <p:nvPr/>
        </p:nvPicPr>
        <p:blipFill>
          <a:blip r:embed="rId1"/>
          <a:stretch/>
        </p:blipFill>
        <p:spPr>
          <a:xfrm>
            <a:off x="115920" y="1420920"/>
            <a:ext cx="4906800" cy="4273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"/>
          <p:cNvSpPr/>
          <p:nvPr/>
        </p:nvSpPr>
        <p:spPr>
          <a:xfrm>
            <a:off x="5083200" y="1404720"/>
            <a:ext cx="387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nad 60% pracodawców nie widziała potrzeby podnoszenia kwalifikacji pracowników, twierdząc że obecny ich poziom wystarcza do wykonywania powierzonych im zadań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zynnik kosztowy jest istotną barierą dla pracodawców zatrudniających mniej niż 50 osób, dla nich również kwestia niedopasowania oferty szkoleniowej do potrzeb jest najmniej istotną przeszkodą w podnoszeniu kwalifikacji pracownikó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ole tekstowe 9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1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Łącznik prosty 7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500040" y="11210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3ef75"/>
                </a:solidFill>
                <a:latin typeface="Calibri"/>
                <a:ea typeface="Times New Roman"/>
              </a:rPr>
              <a:t>Co trzeci spośród badanych przedsiębiorców wskazał na braki w wyszkoleniu kadry, które chciałby uzupełnić. Uzyskane odpowiedzi zostały przyporządkowane do 16 ogólnych kategorii, prezentowanych w poniższej tabe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Tabela 6" descr=""/>
          <p:cNvPicPr/>
          <p:nvPr/>
        </p:nvPicPr>
        <p:blipFill>
          <a:blip r:embed="rId1"/>
          <a:stretch/>
        </p:blipFill>
        <p:spPr>
          <a:xfrm>
            <a:off x="628560" y="2408400"/>
            <a:ext cx="6411960" cy="4316400"/>
          </a:xfrm>
          <a:prstGeom prst="rect">
            <a:avLst/>
          </a:prstGeom>
          <a:ln w="0">
            <a:noFill/>
          </a:ln>
        </p:spPr>
      </p:pic>
      <p:sp>
        <p:nvSpPr>
          <p:cNvPr id="146" name="pole tekstowe 8"/>
          <p:cNvSpPr/>
          <p:nvPr/>
        </p:nvSpPr>
        <p:spPr>
          <a:xfrm>
            <a:off x="1797120" y="216000"/>
            <a:ext cx="636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Badanie zapotrzebowania na zawody i kwalifikacj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ffc000"/>
                </a:solidFill>
                <a:latin typeface="Arial"/>
              </a:rPr>
              <a:t>w latach 21013-2014 w województwie świętokrzysk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Kszta&amp;lstrok;cenie ustawiczne: pieni&amp;aogon;dze z Unii nie lecz&amp;aogon; g&amp;lstrok;upoty"/>
          <p:cNvPicPr/>
          <p:nvPr/>
        </p:nvPicPr>
        <p:blipFill>
          <a:blip r:embed="rId1"/>
          <a:stretch/>
        </p:blipFill>
        <p:spPr>
          <a:xfrm>
            <a:off x="299880" y="200160"/>
            <a:ext cx="8616960" cy="6443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Obraz 2" descr="http://www.rynekpracy.pl/zdjecie.php?url=pliki/wykresy_baza/2082.&amp;s=700&amp;w=1700"/>
          <p:cNvPicPr/>
          <p:nvPr/>
        </p:nvPicPr>
        <p:blipFill>
          <a:blip r:embed="rId1"/>
          <a:stretch/>
        </p:blipFill>
        <p:spPr>
          <a:xfrm>
            <a:off x="0" y="0"/>
            <a:ext cx="44226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4645080" y="442080"/>
            <a:ext cx="42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Odsetek Europejczyków biorących udział w kształceniu ustawicznym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wśród osób w wieku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8-64 lata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w krajach UE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oraz Islandii, Norwegii i Szwajcarii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ze względu na płeć w 2012 roku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rostokąt 4"/>
          <p:cNvSpPr/>
          <p:nvPr/>
        </p:nvSpPr>
        <p:spPr>
          <a:xfrm>
            <a:off x="4572000" y="61308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Opracowanie Sedlak &amp; Sedlak na podstawie danych Eurost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106200"/>
          <a:ext cx="3449520" cy="6605640"/>
        </p:xfrm>
        <a:graphic>
          <a:graphicData uri="http://schemas.openxmlformats.org/drawingml/2006/table">
            <a:tbl>
              <a:tblPr/>
              <a:tblGrid>
                <a:gridCol w="495360"/>
                <a:gridCol w="1601640"/>
                <a:gridCol w="1352520"/>
              </a:tblGrid>
              <a:tr h="824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wia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zba bezrobotnych grudzie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3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zba bezrobotnych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 województw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7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0.1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ielec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. Kiel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strowiec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nec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8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karżysk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7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rachowic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at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ędrzej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andomier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0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sz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u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4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łoszcz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zimier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ińczowsk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8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3"/>
          <p:cNvSpPr/>
          <p:nvPr/>
        </p:nvSpPr>
        <p:spPr>
          <a:xfrm>
            <a:off x="3600360" y="110880"/>
            <a:ext cx="55436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ZBA  BEZROBOTNYCH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Z  STOPA  BEZROBOCIA 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 KONIEC  GRUDNIA  2013  ROKU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DŁUG  POWIA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819520" y="613116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JEWÓDZTWO  - 16,5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1"/>
          <p:cNvGraphicFramePr/>
          <p:nvPr/>
        </p:nvGraphicFramePr>
        <p:xfrm>
          <a:off x="3805200" y="1420920"/>
          <a:ext cx="5086440" cy="46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5200" y="1420920"/>
                    <a:ext cx="5086440" cy="46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raz 2" descr="http://www.rynekpracy.pl/zdjecie.php?url=pliki/wykresy_baza/2083.&amp;s=700&amp;w=1700"/>
          <p:cNvPicPr/>
          <p:nvPr/>
        </p:nvPicPr>
        <p:blipFill>
          <a:blip r:embed="rId1"/>
          <a:stretch/>
        </p:blipFill>
        <p:spPr>
          <a:xfrm>
            <a:off x="0" y="0"/>
            <a:ext cx="453564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"/>
          <p:cNvSpPr/>
          <p:nvPr/>
        </p:nvSpPr>
        <p:spPr>
          <a:xfrm>
            <a:off x="4572000" y="623736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Opracowanie Sedlak &amp; Sedlak na podstawie danych Eurost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rostokąt 4"/>
          <p:cNvSpPr/>
          <p:nvPr/>
        </p:nvSpPr>
        <p:spPr>
          <a:xfrm>
            <a:off x="4718160" y="690480"/>
            <a:ext cx="42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Odsetek Europejczyków biorących udział w kształceniu ustawicznym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wśród osób w wieku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18-24 lata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w krajach UE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oraz Islandii, Norwegii i Szwajcarii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ze względu na płeć w 2012 roku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Obraz 2" descr="http://www.rynekpracy.pl/zdjecie.php?url=pliki/wykresy_baza/2084.&amp;s=700&amp;w=1700"/>
          <p:cNvPicPr/>
          <p:nvPr/>
        </p:nvPicPr>
        <p:blipFill>
          <a:blip r:embed="rId1"/>
          <a:stretch/>
        </p:blipFill>
        <p:spPr>
          <a:xfrm>
            <a:off x="0" y="0"/>
            <a:ext cx="384192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3914640" y="6240960"/>
            <a:ext cx="50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Opracowanie Sedlak &amp; Sedlak na podstawie danych Eurosta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024440" y="477720"/>
            <a:ext cx="4937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Odsetek Europejczyków biorących udział w kształceniu ustawicznym </a:t>
            </a:r>
            <a:br>
              <a:rPr sz="1800"/>
            </a:b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wśród osób w wieku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25-34 lata </a:t>
            </a:r>
            <a:r>
              <a:rPr b="1" lang="pl-PL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w krajach UE oraz Islandii, Norwegii i Szwajcarii ze względu na płeć w 2012 roku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79"/>
          <p:cNvSpPr/>
          <p:nvPr/>
        </p:nvSpPr>
        <p:spPr>
          <a:xfrm>
            <a:off x="190440" y="6459480"/>
            <a:ext cx="817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ffffff"/>
                </a:solidFill>
                <a:latin typeface="Arial"/>
              </a:rPr>
              <a:t>Źródło: „Badanie funkcjonowania systemu kształcenia zawodowego w Polsce”, 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227160" y="1092240"/>
            <a:ext cx="8708760" cy="508788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3"/>
          <p:cNvSpPr/>
          <p:nvPr/>
        </p:nvSpPr>
        <p:spPr>
          <a:xfrm>
            <a:off x="1533960" y="325440"/>
            <a:ext cx="64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000"/>
                </a:solidFill>
                <a:latin typeface="Arial"/>
              </a:rPr>
              <a:t>Udział w zajęciach dokształcających (w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79"/>
          <p:cNvSpPr/>
          <p:nvPr/>
        </p:nvSpPr>
        <p:spPr>
          <a:xfrm>
            <a:off x="190440" y="6459480"/>
            <a:ext cx="8178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ffffff"/>
                </a:solidFill>
                <a:latin typeface="Arial"/>
              </a:rPr>
              <a:t>Źródło: „Badanie funkcjonowania systemu kształcenia zawodowego w Polsce”, ME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99880" y="1092240"/>
            <a:ext cx="8558280" cy="5221080"/>
          </a:xfrm>
          <a:prstGeom prst="rect">
            <a:avLst/>
          </a:prstGeom>
          <a:ln w="0">
            <a:noFill/>
          </a:ln>
        </p:spPr>
      </p:pic>
      <p:sp>
        <p:nvSpPr>
          <p:cNvPr id="162" name="Prostokąt 3"/>
          <p:cNvSpPr/>
          <p:nvPr/>
        </p:nvSpPr>
        <p:spPr>
          <a:xfrm>
            <a:off x="665280" y="216000"/>
            <a:ext cx="806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c000"/>
                </a:solidFill>
                <a:latin typeface="Arial"/>
              </a:rPr>
              <a:t>Formy zajęć pozalekcyjnych organizowanych przez szkołę oraz udział w nich (w %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8360" y="653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c000"/>
                </a:solidFill>
                <a:latin typeface="Arial"/>
              </a:rPr>
              <a:t>,,Szkoła przygotowuje do życia w świecie, </a:t>
            </a:r>
            <a:br>
              <a:rPr sz="2800"/>
            </a:br>
            <a:r>
              <a:rPr b="0" i="1" lang="pl-PL" sz="2800" spc="-1" strike="noStrike">
                <a:solidFill>
                  <a:srgbClr val="ffc000"/>
                </a:solidFill>
                <a:latin typeface="Arial"/>
              </a:rPr>
              <a:t>który nie istniej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192640" y="2552760"/>
            <a:ext cx="289584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Albert Ca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ytuł 1"/>
          <p:cNvSpPr/>
          <p:nvPr/>
        </p:nvSpPr>
        <p:spPr>
          <a:xfrm>
            <a:off x="884160" y="3319560"/>
            <a:ext cx="6755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UŻ nie istnieje c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ESZCZE nie istnie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c000"/>
                </a:solidFill>
                <a:latin typeface="Arial"/>
              </a:rPr>
              <a:t>Scenariusze rozwoju systemu eduk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36600" y="1347480"/>
            <a:ext cx="84232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Fabryka Komponentów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system zorganizowany na wzór nowoczesnej fabryki, w której następuje proces formatowania jednostek, tak aby przyswoiły określoną wiedzę i były zdolne do wykonywania zaplanowanych odgórnie zad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Mozaika Możliwośc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współistnieją publiczne i prywatne instytucje edukacyjne, które konkurują ze sobą bogatą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i zróżnicowaną ofertą. Jest to edukacja otwarta zawierająca w sobie edukację formalną, nieformalną i pozaformalną w perspektywie uczenia się przez całe życie (life-long learn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ole tekstowe 3"/>
          <p:cNvSpPr/>
          <p:nvPr/>
        </p:nvSpPr>
        <p:spPr>
          <a:xfrm>
            <a:off x="678600" y="6058080"/>
            <a:ext cx="66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(Raport ,,Jak będzie zmieniać się edukacja. Wyzwania dla polskiej szkoły i uczni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itold Kołodziejczyk, Marcin Pola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54468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Rośnie zainteresowanie edukacją nieformalną, alternatywną (e-learning, zajęcia pozaszkolne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raz więcej inicjatyw ma miejsce poza murami szkoły 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 nie zawsze są one uwzględniane jako część osiągnięć uczniów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Arial"/>
              </a:rPr>
              <a:t>Coraz częściej szkoła przestaje być postrzegana jako jedyne miejsce, w którym się uczym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echnologie są w coraz większym stopniu środkiem wspierania rozwoju uczniów, narzędziem komunikowania się i socjalizacji a przede wszystkim częścią życia wszystkich młodych ludz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ole tekstowe 3"/>
          <p:cNvSpPr/>
          <p:nvPr/>
        </p:nvSpPr>
        <p:spPr>
          <a:xfrm>
            <a:off x="678600" y="6058080"/>
            <a:ext cx="66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(Raport ,,Jak będzie zmieniać się edukacja. Wyzwania dla polskiej szkoły i uczni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itold Kołodziejczyk, Marcin Pola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c000"/>
                </a:solidFill>
                <a:latin typeface="Arial"/>
              </a:rPr>
              <a:t>Umiejętność uczenia się jako kluczowa kompetencja XXI wie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ie ma możliwości dokładnego przewidzenia zmian na rynku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ie wiemy jakie zawody powstaną w perspektywie najbliższych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10 lat i jakich umiejętności będzie wymagało ich wykonywani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empo zmian technologicznych jest na tyle duże, że prawdopodobnie niedługo wystarczy jedna dekada aby całkowicie zmienił się zestaw narzędzia, jakimi posługuje się na co dzień człowi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dkrycia naukowe będą wymuszały zmiany dotychczasowych metod pra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c3e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c3ef75"/>
                </a:solidFill>
                <a:latin typeface="Arial"/>
              </a:rPr>
              <a:t>Sukcesy będą odnosić Ci, którzy wezmą na siebie odpowiedzialność za własne kształcenie i narzucą sobie wewnętrzną dyscyplinę samokształcenia (będą potrafili się uczyć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3"/>
          <p:cNvSpPr/>
          <p:nvPr/>
        </p:nvSpPr>
        <p:spPr>
          <a:xfrm>
            <a:off x="678600" y="6167520"/>
            <a:ext cx="669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(Raport ,,Jak będzie zmieniać się edukacja. Wyzwania dla polskiej szkoły i uczni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itold Kołodziejczyk, Marcin Pola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92d050"/>
                </a:solidFill>
                <a:latin typeface="Arial"/>
              </a:rPr>
              <a:t>WIEM</a:t>
            </a:r>
            <a:r>
              <a:rPr b="0" lang="pl-PL" sz="2800" spc="-1" strike="noStrike">
                <a:solidFill>
                  <a:srgbClr val="92d050"/>
                </a:solidFill>
                <a:latin typeface="Arial"/>
              </a:rPr>
              <a:t> czyli potrafię odnaleźć potrzebną informację i ją wykorzysta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9120" y="2625480"/>
            <a:ext cx="8229600" cy="29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o  czy będziemy potrafili się szybko uczyć, będzie powiązane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 tym jak sprawnie będziemy poruszać się w zasobach informacyjnych (głównie sieciowych), aby odnaleźć poszukiwaną informację i przetworzyć ją w wiedz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ole tekstowe 3"/>
          <p:cNvSpPr/>
          <p:nvPr/>
        </p:nvSpPr>
        <p:spPr>
          <a:xfrm>
            <a:off x="708120" y="6058080"/>
            <a:ext cx="663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,Raport ,Jak będzie zmieniać się edukacja. Wyzwania dla polskiej szkoły i uczni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itold Kołodziejczyk, Marcin Pol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912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Nie obowiązuje już zasada</a:t>
            </a:r>
            <a:br>
              <a:rPr sz="3200"/>
            </a:b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,,20 lat nauki na 40 lat pracy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19120" y="15303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ustannie zmieniający się świat, postępujące tempo życia czynią dostosowywanie swoich kwalifikacji do potrzeb nowych specjalności i zawodów </a:t>
            </a:r>
            <a:r>
              <a:rPr b="1" lang="pl-PL" sz="2400" spc="-1" strike="noStrike">
                <a:solidFill>
                  <a:srgbClr val="ffc000"/>
                </a:solidFill>
                <a:latin typeface="Arial"/>
              </a:rPr>
              <a:t>KONIECZNOŚCIĄ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miany nigdy nie ustają a zatem potrzeba uczenia się nigdy nie za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000"/>
                </a:solidFill>
                <a:latin typeface="Arial"/>
              </a:rPr>
              <a:t>WYZWANIEM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jest więc kształtowanie świadomości edukacyjnej człowieka. Tworzenie postaw aktywnego uczenia się przez całe życie powinno odbywać się na poziomie edukacji szkol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266760" y="119160"/>
          <a:ext cx="8685000" cy="6513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19160"/>
                    <a:ext cx="868500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645080" y="4853160"/>
            <a:ext cx="435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atarzyna Łazar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jewódzki Urząd P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Kielc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63640" y="238428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wup1"/>
          <p:cNvPicPr/>
          <p:nvPr/>
        </p:nvPicPr>
        <p:blipFill>
          <a:blip r:embed="rId1"/>
          <a:stretch/>
        </p:blipFill>
        <p:spPr>
          <a:xfrm>
            <a:off x="1833480" y="1384200"/>
            <a:ext cx="5403960" cy="32608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erb_woj"/>
          <p:cNvPicPr/>
          <p:nvPr/>
        </p:nvPicPr>
        <p:blipFill>
          <a:blip r:embed="rId2"/>
          <a:stretch/>
        </p:blipFill>
        <p:spPr>
          <a:xfrm>
            <a:off x="2089080" y="1566720"/>
            <a:ext cx="560520" cy="621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0" y="47160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JEWÓDZKI URZĄD PRACY W KIELCA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0" y="445140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adres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. Witosa 86, 25-561 Kiel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tel.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41) 36-41-600, </a:t>
            </a:r>
            <a:r>
              <a:rPr b="1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ax.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41) 36-41-6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e-mail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up@wup.kielc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www: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wup.kielc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H:\projekty Photoshop\projekty\logo_wup.jpg"/>
          <p:cNvPicPr/>
          <p:nvPr/>
        </p:nvPicPr>
        <p:blipFill>
          <a:blip r:embed="rId3"/>
          <a:stretch/>
        </p:blipFill>
        <p:spPr>
          <a:xfrm>
            <a:off x="6434280" y="1562040"/>
            <a:ext cx="583920" cy="406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7"/>
          <p:cNvSpPr/>
          <p:nvPr/>
        </p:nvSpPr>
        <p:spPr>
          <a:xfrm>
            <a:off x="336600" y="5911920"/>
            <a:ext cx="78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Łącznie w wieku 18-34 lata - 44.989 osób tj.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 50,0% ogół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000"/>
                </a:solidFill>
                <a:latin typeface="Arial"/>
              </a:rPr>
              <a:t>(w kraju - 47,0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5" descr=""/>
          <p:cNvPicPr/>
          <p:nvPr/>
        </p:nvPicPr>
        <p:blipFill>
          <a:blip r:embed="rId1"/>
          <a:stretch/>
        </p:blipFill>
        <p:spPr>
          <a:xfrm>
            <a:off x="154080" y="179280"/>
            <a:ext cx="8762760" cy="5639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993600" y="108720"/>
            <a:ext cx="6572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Bezrobotni  do 25 roku życia według powiató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 koniec grudnia 201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68440" y="1019160"/>
          <a:ext cx="6134040" cy="5359320"/>
        </p:xfrm>
        <a:graphic>
          <a:graphicData uri="http://schemas.openxmlformats.org/drawingml/2006/table">
            <a:tbl>
              <a:tblPr/>
              <a:tblGrid>
                <a:gridCol w="584280"/>
                <a:gridCol w="2298600"/>
                <a:gridCol w="1595520"/>
                <a:gridCol w="165564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ia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zba bezrobotnych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25 roku ży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azimier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8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ińczow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u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0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atow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4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andomier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2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aszow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łoszczow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ielec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5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ędrzejow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2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jewódz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onec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46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tarachowic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 1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strowiec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4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karżyski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0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. Kiel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 3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93600" y="108720"/>
            <a:ext cx="6572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Bezrobotni  do 25 roku życia według województ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na koniec grudnia 2013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68440" y="1019160"/>
          <a:ext cx="6134040" cy="5583240"/>
        </p:xfrm>
        <a:graphic>
          <a:graphicData uri="http://schemas.openxmlformats.org/drawingml/2006/table">
            <a:tbl>
              <a:tblPr/>
              <a:tblGrid>
                <a:gridCol w="584280"/>
                <a:gridCol w="2298600"/>
                <a:gridCol w="1595520"/>
                <a:gridCol w="165564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wia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zba bezrobotnych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 25 roku ży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ł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 3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karpac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 7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be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 29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elk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 0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dla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ętokrzy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jawsko-Pomo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 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armińsko-Mazu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 2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mo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5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aj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1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fc000"/>
                        </a:gs>
                        <a:gs pos="100000">
                          <a:srgbClr val="fee7f2"/>
                        </a:gs>
                      </a:gsLst>
                      <a:lin ang="5400000"/>
                    </a:gra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pol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 3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zowiec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 3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ubu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Łódz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4 5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Ślą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 6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Zachodniopomor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 4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olnośląsk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 0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Obraz 8" descr="europa_kontur09.2013.jpg"/>
          <p:cNvPicPr/>
          <p:nvPr/>
        </p:nvPicPr>
        <p:blipFill>
          <a:blip r:embed="rId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ole tekstowe 2"/>
          <p:cNvSpPr/>
          <p:nvPr/>
        </p:nvSpPr>
        <p:spPr>
          <a:xfrm>
            <a:off x="0" y="214200"/>
            <a:ext cx="3714840" cy="65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Stopa bezrobo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śród młod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(do 25 roku ży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 kraj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nii Europejsk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Źródło:  EUR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Dane:    wrzesień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ole tekstowe 5"/>
          <p:cNvSpPr/>
          <p:nvPr/>
        </p:nvSpPr>
        <p:spPr>
          <a:xfrm>
            <a:off x="0" y="2260440"/>
            <a:ext cx="3586320" cy="27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BAEL - Badanie Aktywności Ekonomicznej Ludności zgodne z metodologią Międzynarodowej Organizacji Pracy, opierające się na </a:t>
            </a: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innej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niż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 statystykach urzędów pracy definicji bezrobotn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Osoba bezrobotna wg BAEL spełnia łącznie kryteria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jest w wieku 15-74 lat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nie pracowała w okresie tygodnia objętego     badanie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aktywnie poszukuje pracy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jest gotowa do podjęcia pracy w ciągu dwóch tygodni po przeprowadzeniu bada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ole tekstowe 6"/>
          <p:cNvSpPr/>
          <p:nvPr/>
        </p:nvSpPr>
        <p:spPr>
          <a:xfrm>
            <a:off x="3841920" y="1639800"/>
            <a:ext cx="2263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lska - 26,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ole tekstowe 7"/>
          <p:cNvSpPr/>
          <p:nvPr/>
        </p:nvSpPr>
        <p:spPr>
          <a:xfrm>
            <a:off x="3805200" y="1311120"/>
            <a:ext cx="2154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raje UE 27 - 23,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176480" y="800280"/>
          <a:ext cx="6243480" cy="5722920"/>
        </p:xfrm>
        <a:graphic>
          <a:graphicData uri="http://schemas.openxmlformats.org/drawingml/2006/table">
            <a:tbl>
              <a:tblPr/>
              <a:tblGrid>
                <a:gridCol w="583920"/>
                <a:gridCol w="2829240"/>
                <a:gridCol w="2830320"/>
              </a:tblGrid>
              <a:tr h="36504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ojewództw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opa bezrobocia (w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zowiec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Łódz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mor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E 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ol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elkopol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Świętokrzy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Ślą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S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rmińsko-Mazur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la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bel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noślą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achodniopomor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łopol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bu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ujawsko-Pomors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karpack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240" marR="66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rostokąt 3"/>
          <p:cNvSpPr/>
          <p:nvPr/>
        </p:nvSpPr>
        <p:spPr>
          <a:xfrm>
            <a:off x="227160" y="0"/>
            <a:ext cx="86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a bezrobocia w wieku 15-24 l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III kwartale 2013 roku według BA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9"/>
          <p:cNvSpPr/>
          <p:nvPr/>
        </p:nvSpPr>
        <p:spPr>
          <a:xfrm>
            <a:off x="1103400" y="6605640"/>
            <a:ext cx="1716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300" spc="-1" strike="noStrike">
                <a:solidFill>
                  <a:srgbClr val="ffffff"/>
                </a:solidFill>
                <a:latin typeface="Arial"/>
              </a:rPr>
              <a:t>Źródło:  GU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9:43:25Z</dcterms:created>
  <dc:creator>WUP</dc:creator>
  <dc:description/>
  <dc:language>en-US</dc:language>
  <cp:lastModifiedBy>k.dabrowska</cp:lastModifiedBy>
  <dcterms:modified xsi:type="dcterms:W3CDTF">2014-03-07T07:27:47Z</dcterms:modified>
  <cp:revision>2426</cp:revision>
  <dc:subject/>
  <dc:title>Slajd 1</dc:title>
</cp:coreProperties>
</file>