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25560" y="750600"/>
            <a:ext cx="500544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E222-8DAF-4E38-9043-1235705ABD8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5440" cy="3754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ymbol zastępczy numeru slajdu 3"/>
          <p:cNvSpPr/>
          <p:nvPr/>
        </p:nvSpPr>
        <p:spPr>
          <a:xfrm>
            <a:off x="3884760" y="951228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D80-2DDF-4084-BEB1-F137293874BB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407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407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407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Min Gosp\logo MPG\Przezrocz\MPG_logo_horizontal_pantone_35-01.png"/>
          <p:cNvPicPr/>
          <p:nvPr/>
        </p:nvPicPr>
        <p:blipFill>
          <a:blip r:embed="rId2"/>
          <a:stretch/>
        </p:blipFill>
        <p:spPr>
          <a:xfrm>
            <a:off x="6588000" y="620640"/>
            <a:ext cx="2109960" cy="1440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694960" y="5923080"/>
            <a:ext cx="397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tarachow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7 marca 2014 roku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1640" y="2994120"/>
            <a:ext cx="618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Świat pracy i świat edukac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rane uwagi do problemów współistnienia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16000" y="40766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 wszyscy mogą być mistrzami w zawodzi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dyplomem uniwersyteckim w kiesze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zemieślnicy też są potrzebni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Średnie miesięczne płac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rektorów szkół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 gospodarkach do których poziomu aspirujem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991040" cy="3743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640" y="2852280"/>
            <a:ext cx="69120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elka Brytania      16 000 zł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emcy                   27 000 zł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000 zł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971640" y="3357720"/>
            <a:ext cx="748800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zary Tkaczyk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Prezes Zarządu SSE „Starachowice” S.A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dzisław Kobiersk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ceprezes Zarządu SSE „Starachowice” S.A.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ekretariat@sse.com.pl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                tel. +48 41 275 41 01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7" name="Prostokąt 4"/>
          <p:cNvSpPr/>
          <p:nvPr/>
        </p:nvSpPr>
        <p:spPr>
          <a:xfrm>
            <a:off x="2268360" y="508464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7275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2f7275"/>
                </a:solidFill>
                <a:latin typeface="Tahoma"/>
              </a:rPr>
              <a:t>Dziękujemy za uwagę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78" name="Picture 5" descr="C:\Min Gosp\logo MPG\Przezrocz\MPG_logo_horizontal_pantone_35-01.png"/>
          <p:cNvPicPr/>
          <p:nvPr/>
        </p:nvPicPr>
        <p:blipFill>
          <a:blip r:embed="rId2"/>
          <a:stretch/>
        </p:blipFill>
        <p:spPr>
          <a:xfrm>
            <a:off x="6588000" y="1413000"/>
            <a:ext cx="2109960" cy="14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mpetencje zawodowe, a kwalifikacje zawodow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40000" y="1773360"/>
            <a:ext cx="64087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y by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mpetentny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zeba mie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walifikacje i uprawni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walifikacje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zygotowanie do pracy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swoim zawodz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 Polsce zbyt często uznaje się za kompetentnego już takiego pracownik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tóremu nadano tylko uprawnie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172872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880" y="757080"/>
            <a:ext cx="645336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 skład kwalifikacji wchodz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68360" y="1413000"/>
            <a:ext cx="73440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edz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miejętnoś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chy psychofizycz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 pracodawcy ważne s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miejętnośc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e najważniejszymi są </a:t>
            </a: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chy psychofizyczne pracownik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ie wied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1657080" cy="3384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5300640"/>
            <a:ext cx="78483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edza jest dorobkiem szukającego pracę,  ale jeśli chce pracę zdobyć musi posiadać wyżej wymienione cechy.</a:t>
            </a:r>
            <a:endParaRPr b="0" i="1" lang="en-US" sz="23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la pracodawców najważniejsze są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06160" y="2276280"/>
            <a:ext cx="683748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dolność do stałego uczenia si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zedsiębiorczoś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echa osobowości, która nie da się rozwijać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y praktykowanych jeszcze w naszych szkołach formach kształceni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dając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amias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ktywizujący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158400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549360"/>
            <a:ext cx="7777080" cy="57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arte refleksji</a:t>
            </a:r>
            <a:br>
              <a:rPr sz="2800"/>
            </a:br>
            <a:endParaRPr b="0" i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roku szkolnym 2011/2012 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bsolwentów szkół zawodowych przypadał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tudentów. 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olsce obecnie tylko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5-20%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młodych ludzi wybiera kształcenie zawodowe, w innych krajach UE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0-60%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rednio na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 lat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uki w technikum przypada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 miesiąc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ktyki (podobnie jak na studiach)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53%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olskich firm najczęściej skarży się na braki kompetencji zawodowyc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. Kabaj, WPŁYW SYSTEMÓW KSZTAŁCENIA ZAWODOWEGO NA ZATRUDNIENIE I BEZROBOCIE MŁODZIEŻY, 2012</a:t>
            </a:r>
            <a:endParaRPr b="0" i="1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topa bezrobocia wśród osób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     w wieku 15-24 (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276720" y="1484280"/>
          <a:ext cx="5113080" cy="3095640"/>
        </p:xfrm>
        <a:graphic>
          <a:graphicData uri="http://schemas.openxmlformats.org/drawingml/2006/table">
            <a:tbl>
              <a:tblPr/>
              <a:tblGrid>
                <a:gridCol w="2265120"/>
                <a:gridCol w="811440"/>
                <a:gridCol w="203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aj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ednia stopa bezrobocia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-201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ia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ka Czeska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3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mcy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lska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6,7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4,05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wajcaria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i="1" lang="en-US" sz="2000" spc="-1" strike="noStrike" u="sng">
                        <a:solidFill>
                          <a:srgbClr val="000000"/>
                        </a:solidFill>
                        <a:uFillTx/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971640" y="508464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zwajcaria (87% uczniów szkół zawodowych zdobywa wiedzę oraz kwalifikacje w dualnym systemie kształcenia), Niemcy (69%), Republika Czeska (58%), Węgry, Holandia, Austria (30-35%)</a:t>
            </a: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4653000"/>
            <a:ext cx="52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: Eurostat 2012 oraz World Development Indicators 2012</a:t>
            </a:r>
            <a:endParaRPr b="0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18734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ształcenie dualne - Korzyśc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2818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przedsiębiorc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stosowanie treści nauczania do jego rzeczywistych potrze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ształcenie ucznia według własnych potrzeb, wymagań i standardów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ucz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łynne przejście z okresu nauki w szkol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czynnego życia zawodowego</a:t>
            </a:r>
            <a:br>
              <a:rPr sz="2000"/>
            </a:b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la gospodark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6960" indent="-246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mniejszenie bezrobocia strukturalnego w gospodarc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raz uelastycznienie rynku p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6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456840"/>
            <a:ext cx="7918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lematy lokalnych absolwentó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6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ytania pracodawcy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 potrafisz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łychać odpowiedź  „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kończyłem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i absolwenci nie umieją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unikować się z pracodawc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k wiedzy na temat autoprezentacji        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1716120" cy="46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32000" y="1557000"/>
            <a:ext cx="691200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mocję kształcenia zawodowego należy prowadzić w oparciu o powszechną, długoterminową kampanię społeczną skierowaną do uczniów i rodziców w celu przełamywania negatywnych stereotypów kształcenia zawodowego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ampania winna opierać się o pełną współpracę z mediam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zczególnie ważne jest aby w działaniach promocyjnych brali udział pracodawc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organizacje zrzeszające pracodawc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1622160" cy="410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4936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SE ”Starachowice” S.A. animatorem Integracji: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BIZNES - SZKOLNICTWO ZAWODOWE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07:52:03Z</dcterms:created>
  <dc:creator>Marta Tomaszewska</dc:creator>
  <dc:description/>
  <dc:language>en-US</dc:language>
  <cp:lastModifiedBy>zetka</cp:lastModifiedBy>
  <dcterms:modified xsi:type="dcterms:W3CDTF">2014-03-06T11:05:26Z</dcterms:modified>
  <cp:revision>247</cp:revision>
  <dc:subject/>
  <dc:title>Geneza strefy czyli Starachowice w II połowie  lat dziewięćdziesiątych</dc:title>
</cp:coreProperties>
</file>