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35C1-72D4-4B9A-B452-F44B96EFF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A468-4D31-4210-9F39-C1B21D26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DB2D-1E2E-4367-B736-2CE2255C3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B8C5-9E65-40A1-A010-513B5199C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AB3B-CF12-4A2E-AAE2-DFD1AA11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1E08-EC7C-4035-8370-195B4005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6C53-BAF8-41DB-94EA-B0025E9F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CBE4-3678-4BB5-9C2B-924EBD73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0DAC-323B-470B-B97A-B7A1AD62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AC22-20EA-49AB-ABE8-8C3AFF4B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683B-DB16-4F64-B373-44394C2E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72B5-89A1-40BF-BD16-F4936964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CDF3-246D-490E-9C28-27952F74B55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we.it.kielce/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001880"/>
            <a:ext cx="77724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Świętokrzyskie Centrum Innowacji i Transferu Technologii Sp. z o.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72040" y="4581360"/>
            <a:ext cx="3772080" cy="19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Elżbieta Cholew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Krzysztof Wójtowi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raz 4" descr="exbud_zdj_js_28_08_2009.jpg"/>
          <p:cNvPicPr/>
          <p:nvPr/>
        </p:nvPicPr>
        <p:blipFill>
          <a:blip r:embed="rId1"/>
          <a:stretch/>
        </p:blipFill>
        <p:spPr>
          <a:xfrm>
            <a:off x="468360" y="3860640"/>
            <a:ext cx="3456000" cy="24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280" y="5805000"/>
            <a:ext cx="771516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PROJEKT WSPÓŁFINANSOWANY ZE ŚRODKÓW UNII EUROPEJSKIEJ W RAMACH EUROPEJSKIEGO FUNDUSZU SPOŁECZNEG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267920"/>
            <a:ext cx="82296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ojekt realizowany je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zez Świętokrzyskie Centrum Innowacji 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i Transferu Technologii Sp. z o.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Świętokrzyskie Centrum Doskonalenia Nauczycieli ora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Izbę Gospodarczą „Grono Targowe Kielc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280" y="5805000"/>
            <a:ext cx="771516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PROJEKT WSPÓŁFINANSOWANY ZE ŚRODKÓW UNII EUROPEJSKIEJ W RAMACH EUROPEJSKIEGO FUNDUSZU SPOŁECZNEG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267920"/>
            <a:ext cx="82296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ojekt skierowany jest do uczniów 50 szkół zawodowych dla młodzieży kształcących 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w branżach i specjalnościach o kluczowym znaczeniu dla rozwoju regionu świętokrzyskiego oraz nauczycieli przedmiotów zawodowych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280" y="5805000"/>
            <a:ext cx="771516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PROJEKT WSPÓŁFINANSOWANY ZE ŚRODKÓW UNII EUROPEJSKIEJ W RAMACH EUROPEJSKIEGO FUNDUSZU SPOŁECZNEG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267920"/>
            <a:ext cx="82296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W projekcie uczestniczy 2000 uczniów, 50 dyrektorów i 200 nauczycieli przedmiotów zawodowych z 50 szkół zawodowych województwa świętokrzyskieg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280" y="5805000"/>
            <a:ext cx="771516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PROJEKT WSPÓŁFINANSOWANY ZE ŚRODKÓW UNII EUROPEJSKIEJ W RAMACH EUROPEJSKIEGO FUNDUSZU SPOŁECZNEG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267920"/>
            <a:ext cx="82296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Celem głównym projektu jest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rozwinięcie wybranych kompetencji kluczowych i zawodowych u 2000 uczniów z 50 szkół zawodowych województwa świętokrzyskiego, ukierunkowanych na przygotowanie do wymogów regionalnego rynku prac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280" y="5805000"/>
            <a:ext cx="771516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PROJEKT WSPÓŁFINANSOWANY ZE ŚRODKÓW UNII EUROPEJSKIEJ W RAMACH EUROPEJSKIEGO FUNDUSZU SPOŁECZNEG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11280" y="126792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Cel zostanie osiągnięty poprzez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</a:rPr>
              <a:t>Wsparcie merytoryczne i tj. 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udział w dodatkowych zajęciach dydaktycznych z wykorzystaniem nowoczesnych narzędzi ICT z uwzględnieniem tablicy interaktywnej i platformy e-learningowej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udział w warsztatach z doradztwa edukacyjno-zawodowego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280" y="5805000"/>
            <a:ext cx="771516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PROJEKT WSPÓŁFINANSOWANY ZE ŚRODKÓW UNII EUROPEJSKIEJ W RAMACH EUROPEJSKIEGO FUNDUSZU SPOŁECZNEG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267920"/>
            <a:ext cx="82296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doposażenie szkół w oprogramowanie dotyczące doradztwa zawodowego, zestawy sprzętu multimedialnego i zestawy branżowych pomocy dydaktycz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</a:rPr>
              <a:t>Wsparcie praktyczne tj.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zorganizowanie 50 staży zawodow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zorganizowanie 900 praktyk zawodowy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5805000"/>
            <a:ext cx="771516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PROJEKT WSPÓŁFINANSOWANY ZE ŚRODKÓW UNII EUROPEJSKIEJ W RAMACH EUROPEJSKIEGO FUNDUSZU SPOŁECZNEG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267920"/>
            <a:ext cx="82296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Zadaniem ŚCITT jest zorganizowanie 475 prakty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zawodowych oraz 25 staż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 ferie 2014 r. 152 uczniów/uczennic z Końskich, Skarżyska, Stąporkowa, Kielc , Chęcin, Buska – Zdroju oraz Skalbmierza odbyło praktyki zawodowe w takich zawodach jak: technik informatyk, technik logistyk, technik handlowiec, mechanik, fryzjer, technik organizacji reklam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5805000"/>
            <a:ext cx="771516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PROJEKT WSPÓŁFINANSOWANY ZE ŚRODKÓW UNII EUROPEJSKIEJ W RAMACH EUROPEJSKIEGO FUNDUSZU SPOŁECZNEG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6792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ojek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Obraz 2" descr=""/>
          <p:cNvPicPr/>
          <p:nvPr/>
        </p:nvPicPr>
        <p:blipFill>
          <a:blip r:embed="rId1"/>
          <a:stretch/>
        </p:blipFill>
        <p:spPr>
          <a:xfrm>
            <a:off x="1547640" y="2492280"/>
            <a:ext cx="62532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71280" y="5805000"/>
            <a:ext cx="771516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PROJEKT WSPÓŁFINANSOWANY ZE ŚRODKÓW UNII EUROPEJSKIEJ W RAMACH EUROPEJSKIEGO FUNDUSZU SPOŁECZNEG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981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-26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ojek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realizowany jest przez Świętokrzyskie Centrum Innowacji i Transferu Technologii Sp. z o.o. 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w partnerstwie z Urzędem Marszałkowskim w Kielcach, Fundacją Centrum Europy Lokalnej w Kielcach oraz  Europäische Zentrum  für Erneuerbare Energie z Güssing w Austrii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1280" y="5805000"/>
            <a:ext cx="771516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PROJEKT WSPÓŁFINANSOWANY ZE ŚRODKÓW UNII EUROPEJSKIEJ W RAMACH EUROPEJSKIEGO FUNDUSZU SPOŁECZNEG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08000" y="1125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Głównym celem projektu jest wzmocnienie oferty edukacyjnej i podniesienie oferty kształcenia z zakresu tematycznego Odnawialnych Źródeł Energii w 5 szkołach zawodowych woj. świętokrzyskiego, poprzez przeszkolenie 10 nauczycieli i 180 uczniów szkół zawodowych do 06.2015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280" y="5805000"/>
            <a:ext cx="771516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PROJEKT WSPÓŁFINANSOWANY ZE ŚRODKÓW UNII EUROPEJSKIEJ W RAMACH EUROPEJSKIEGO FUNDUSZU SPOŁECZNEG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267920"/>
            <a:ext cx="82296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ojek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Rozwój przedsiębiorczości w oparciu 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o efektywne wykorzystanie energii – szkolenia dla pracowników i kadry zarządzającej mikro - małych  - średnich przedsiębiorstw w województwie świętokrzysk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71280" y="5805000"/>
            <a:ext cx="771516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PROJEKT WSPÓŁFINANSOWANY ZE ŚRODKÓW UNII EUROPEJSKIEJ W RAMACH EUROPEJSKIEGO FUNDUSZU SPOŁECZNEG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267920"/>
            <a:ext cx="82296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Działania zaplanowane w projekc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Warsztaty zagraniczne i krajowe dla nauczycieli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Zagraniczne praktyki zawodowe dla 54 uczniów w Austrii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Szkolny Ośrodek Kariery i warsztaty przedsiębiorczości - spotkania cykliczne uczniów szkół zawodowych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Dodatkowy kurs jez. niemieckiego, tematyka związana z wybranym zawodem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71280" y="5805000"/>
            <a:ext cx="771516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PROJEKT WSPÓŁFINANSOWANY ZE ŚRODKÓW UNII EUROPEJSKIEJ W RAMACH EUROPEJSKIEGO FUNDUSZU SPOŁECZNEG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267920"/>
            <a:ext cx="82296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Działania zaplanowane w projekci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Zajęcia interaktywne E-VIDEO KLASA- metodą e-learningową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Konkurs z nagrodami Eko-Szkoła - mobilne zestawy edukacyjne z OZ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Staże krajowe - dla najlepszych 18 ucznió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Zakup wyposażenia pracowni i laboratoriów - 3 szkoły -„Technik urządzeń i systemów energetyki odnawialnej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280" y="5805000"/>
            <a:ext cx="771516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PROJEKT WSPÓŁFINANSOWANY ZE ŚRODKÓW UNII EUROPEJSKIEJ W RAMACH EUROPEJSKIEGO FUNDUSZU SPOŁECZNEG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267920"/>
            <a:ext cx="82296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Szczegółowe informacje o projekcie oraz działaniach można uzyskać  na stronie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 u="sng">
                <a:solidFill>
                  <a:srgbClr val="0000ff"/>
                </a:solidFill>
                <a:uFillTx/>
                <a:latin typeface="Calibri"/>
              </a:rPr>
              <a:t>www.zielonyzawód.p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5805000"/>
            <a:ext cx="771516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PROJEKT WSPÓŁFINANSOWANY ZE ŚRODKÓW UNII EUROPEJSKIEJ W RAMACH EUROPEJSKIEGO FUNDUSZU SPOŁECZNEG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267920"/>
            <a:ext cx="82296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az 2" descr=""/>
          <p:cNvPicPr/>
          <p:nvPr/>
        </p:nvPicPr>
        <p:blipFill>
          <a:blip r:embed="rId1"/>
          <a:stretch/>
        </p:blipFill>
        <p:spPr>
          <a:xfrm>
            <a:off x="641520" y="1989000"/>
            <a:ext cx="3992400" cy="3251160"/>
          </a:xfrm>
          <a:prstGeom prst="rect">
            <a:avLst/>
          </a:prstGeom>
          <a:ln w="0">
            <a:noFill/>
          </a:ln>
        </p:spPr>
      </p:pic>
      <p:pic>
        <p:nvPicPr>
          <p:cNvPr id="89" name="Obraz 3" descr=""/>
          <p:cNvPicPr/>
          <p:nvPr/>
        </p:nvPicPr>
        <p:blipFill>
          <a:blip r:embed="rId2"/>
          <a:stretch/>
        </p:blipFill>
        <p:spPr>
          <a:xfrm>
            <a:off x="4818240" y="1484280"/>
            <a:ext cx="40528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280" y="5805000"/>
            <a:ext cx="771516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PROJEKT WSPÓŁFINANSOWANY ZE ŚRODKÓW UNII EUROPEJSKIEJ W RAMACH EUROPEJSKIEGO FUNDUSZU SPOŁECZNEG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0" y="1267920"/>
            <a:ext cx="86868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3600" spc="-1" strike="noStrike">
                <a:solidFill>
                  <a:srgbClr val="000000"/>
                </a:solidFill>
                <a:latin typeface="Calibri"/>
              </a:rPr>
              <a:t>Projek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Laboratorium badawcze biomasy stałej, biogazu i biopaliw oraz sposobów ich efektywnego wykorzystania energetyczne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280" y="5805000"/>
            <a:ext cx="771516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PROJEKT WSPÓŁFINANSOWANY ZE ŚRODKÓW UNII EUROPEJSKIEJ W RAMACH EUROPEJSKIEGO FUNDUSZU SPOŁECZNEG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267920"/>
            <a:ext cx="82296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lvl="1" marL="586800" indent="-225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ojekt realizowany je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zez Świętokrzyskie Centrum Innowacji 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i Transferu Technologii Sp. z o.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ora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Fundację Agencja Rozwoju Regionalnego w Starachowic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86800" indent="-225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86800" indent="-22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86800" indent="-225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1280" y="5805000"/>
            <a:ext cx="771516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PROJEKT WSPÓŁFINANSOWANY ZE ŚRODKÓW UNII EUROPEJSKIEJ W RAMACH EUROPEJSKIEGO FUNDUSZU SPOŁECZNEG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0" y="1483920"/>
            <a:ext cx="86868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W laboratorium prowadzone będą badania jakościowe biomasy i biogazu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Wyposażenie umożliwi badanie jakości energetycznej biomasy, biogazu i przydatności do celów rolniczych osadów z procesów fermentacj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280" y="5805000"/>
            <a:ext cx="771516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PROJEKT WSPÓŁFINANSOWANY ZE ŚRODKÓW UNII EUROPEJSKIEJ W RAMACH EUROPEJSKIEGO FUNDUSZU SPOŁECZNEG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4000" y="1412640"/>
            <a:ext cx="8002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Laboratorium umożliwi także testowanie efektywności paliw płynnych z biomasy 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i recyclingu w silnikach spalinowych oraz efektywności wykorzystania sprężonego gazu ziemnego do celów transportowyc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5805000"/>
            <a:ext cx="771516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PROJEKT WSPÓŁFINANSOWANY ZE ŚRODKÓW UNII EUROPEJSKIEJ W RAMACH EUROPEJSKIEGO FUNDUSZU SPOŁECZNEG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116000" y="1412640"/>
            <a:ext cx="75708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Działanie laboratorium umożliwi również prowadzenie analiz ekonomicznych i organizacyjnych umożliwiających wprowadzanie nowych usług i produktów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Służyć ono będzie przedsiębiorstwom oraz uczniom szkól zainteresowanych prowadzoną działalnością badawcz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64480" indent="-217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64480" indent="-217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280" y="5805000"/>
            <a:ext cx="771516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PROJEKT WSPÓŁFINANSOWANY ZE ŚRODKÓW UNII EUROPEJSKIEJ W RAMACH EUROPEJSKIEGO FUNDUSZU SPOŁECZNEG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77336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ojek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realizowany jest przez Świętokrzyskie Centrum Innowacji i Transferu Technologii Sp. z o.o. 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w partnerstwie z Politechniką Świętokrzysk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79280" y="1915920"/>
            <a:ext cx="8569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Calibri"/>
              </a:rPr>
              <a:t>Głównym celem projektu jest zwiększenie potencjału i konkurencyjności przedsiębiorstw z województwa świętokrzyskiego poprzez poszerzenie kompetencji </a:t>
            </a:r>
            <a:br>
              <a:rPr sz="3000"/>
            </a:br>
            <a:r>
              <a:rPr b="1" lang="pl-PL" sz="3000" spc="-1" strike="noStrike">
                <a:solidFill>
                  <a:srgbClr val="000000"/>
                </a:solidFill>
                <a:latin typeface="Calibri"/>
              </a:rPr>
              <a:t>i podniesienie kwalifikacji w zakresie efektywności energetycznej, w tym polityki bezpieczeństwa energetycznej region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79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rojekt skierowany jest do firm działających w  branż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energetyczne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budowlane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architektonicznej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metalurgiczne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metalowe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maszynowe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spożywcze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transportowe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mineralne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handlowe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usługowe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3492360" y="2060640"/>
            <a:ext cx="48895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W ramach przedsięwzięcia ŚCITT organizuje szkoleni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14200" y="214308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Efektywna gospodarka energetyczna, zarządzanie energią w przedsiębiorstw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Mikroinstalac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Instalacje solarne i ogniwa fotowoltaicz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Biogazownie rolnicze i przemysłow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Nowe technologie pozyskiwania energii z biomas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W ramach przedsięwzięcia ŚCITT organizuje szkoleni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14200" y="214308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Calibri"/>
              </a:rPr>
              <a:t>Pompy ciepła i energia geotermaln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Calibri"/>
              </a:rPr>
              <a:t>Energetyka wiatrow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Calibri"/>
              </a:rPr>
              <a:t>Elektrownie wod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Calibri"/>
              </a:rPr>
              <a:t>Projektowanie innowacyjnych budynków energooszczędnyc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Calibri"/>
              </a:rPr>
              <a:t>Wpływ doboru materiałów, technologii i instalacji na energochłonność budynkó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Calibri"/>
              </a:rPr>
              <a:t>Efektywność energetyczna w użytkowaniu obiektów budowlanyc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28640"/>
            <a:ext cx="777240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</a:rPr>
              <a:t>Szczegółowe informacje o projekcie oraz szkoleniach można uzyskać  na stronie </a:t>
            </a:r>
            <a:r>
              <a:rPr b="0" lang="pl-PL" sz="3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ewe.it.kielc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lub dzwoniąc na num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539 934 20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280" y="5805000"/>
            <a:ext cx="771516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alibri"/>
              </a:rPr>
              <a:t>PROJEKT WSPÓŁFINANSOWANY ZE ŚRODKÓW UNII EUROPEJSKIEJ W RAMACH EUROPEJSKIEGO FUNDUSZU SPOŁECZNEG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781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Projek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Edukacja zawodowa w prakty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07:14:47Z</dcterms:created>
  <dc:creator>syska</dc:creator>
  <dc:description/>
  <dc:language>en-US</dc:language>
  <cp:lastModifiedBy>Wojtek</cp:lastModifiedBy>
  <dcterms:modified xsi:type="dcterms:W3CDTF">2014-03-06T19:55:34Z</dcterms:modified>
  <cp:revision>148</cp:revision>
  <dc:subject/>
  <dc:title>Slajd 1</dc:title>
</cp:coreProperties>
</file>